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.jpeg" ContentType="image/jpeg"/>
  <Override PartName="/ppt/media/image11.gif" ContentType="image/gif"/>
  <Override PartName="/ppt/media/image6.gif" ContentType="image/gif"/>
  <Override PartName="/ppt/media/image5.gif" ContentType="image/gif"/>
  <Override PartName="/ppt/media/image17.gif" ContentType="image/gif"/>
  <Override PartName="/ppt/media/image3.png" ContentType="image/png"/>
  <Override PartName="/ppt/media/image19.png" ContentType="image/png"/>
  <Override PartName="/ppt/media/image16.gif" ContentType="image/gif"/>
  <Override PartName="/ppt/media/image9.jpeg" ContentType="image/jpeg"/>
  <Override PartName="/ppt/media/image15.png" ContentType="image/png"/>
  <Override PartName="/ppt/media/image14.gif" ContentType="image/gif"/>
  <Override PartName="/ppt/media/image10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8.gif" ContentType="image/gif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A791-94B3-48C7-AFBC-6BF48AEE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40B4-1AC3-474F-9F5F-0E805330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47FB-7302-4AE9-BAFB-77E81B6F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57E5-E0C0-4F1E-B52A-AD059FCB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2AC7-BFC1-42E6-A624-0A38F89A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8EB2-775F-4F66-A9D0-E00051A4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AAD8-DD9E-46BF-AF7B-DB95EE97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0771-C3DC-4C35-8DDF-23CD13DA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B853-52A0-4226-BDCF-33C6FF9C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5793-8A12-47B0-8641-45C402F5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FD34-5082-4723-ADC0-AE8B2829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8FAC-353F-43C1-A54B-E7678004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D09D-FCB1-4E96-852F-220E6CEC2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lip ‘n G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5410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diagram represents an animal cell in a _______________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3400" y="1447920"/>
            <a:ext cx="23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ypoton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1640" y="2819520"/>
            <a:ext cx="82821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will probably 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rink        swell &amp; burst     stay the sam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process is called 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2819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well &amp; bur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82560" y="4756320"/>
            <a:ext cx="201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yto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553080" y="457200"/>
            <a:ext cx="2230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 are membra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teins that help water molecul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ve across cell membra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1080" y="533520"/>
            <a:ext cx="32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QUAPOR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8320" y="3635280"/>
            <a:ext cx="8268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difference in the concentra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molecules across a space is called 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49528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centration gradi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7467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 transport does NOT require energy to move molecu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9000" y="533520"/>
            <a:ext cx="17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ass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0320" y="3124080"/>
            <a:ext cx="7715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ind of transport used by ions lik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+ +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,  Cl 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, N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, and K 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to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ve across cell membra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51055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acilitated diffusion with Ion channe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a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and K 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can also mo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y the Na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- K 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pum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ive some 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f membrane prote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elp mo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lecules acr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ll membra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ons move across cell membranes using __________ pum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960" y="3705120"/>
            <a:ext cx="85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rriers, ion channels, aquaporins, pum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486400" y="380880"/>
            <a:ext cx="3200400" cy="2244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63920" y="5486400"/>
            <a:ext cx="164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rot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a kind of transport that us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mbrane proteins to help molecules move across membra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5320" y="2209680"/>
            <a:ext cx="7736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acilitated diffusion with carrier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acilitated diffusion with ion channel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acilitated diffusion with aquaporins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(osmosi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a</a:t>
            </a:r>
            <a:r>
              <a:rPr b="1" lang="en-US" sz="36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-K</a:t>
            </a:r>
            <a:r>
              <a:rPr b="1" lang="en-US" sz="36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pu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ton pu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-360" y="19807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membrane tha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s certai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lecules pas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rough and no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thers is call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4120" y="4419720"/>
            <a:ext cx="555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emi permeable 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electively perme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581280" y="152280"/>
            <a:ext cx="5181840" cy="3891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66680" y="6248520"/>
            <a:ext cx="6838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Image from:</a:t>
            </a:r>
            <a:r>
              <a:rPr b="1" lang="en-US" sz="2400" spc="-1" strike="noStrike">
                <a:solidFill>
                  <a:srgbClr val="cc3399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http://www.d.umn.edu/~sdowning/Membranes/membraneImages/jpegimages/diffusionmedium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a kind of transport that u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esicles to move substances acr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membr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6560" y="2438280"/>
            <a:ext cx="588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inocytosis, phagocytosis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xocytosis, end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2600" y="4267080"/>
            <a:ext cx="858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kind of transport 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ves WATER across cell membra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5627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SMOSIS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Facilitated diffusion with aquaporin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freshwater fish has about 1% salt in his body. Freshwater is close to 0% sal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ill water move into or out of this kind of fis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8400" y="380880"/>
            <a:ext cx="340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ore solu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olecules inside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e fish’s cel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an in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reshwater.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HYPOTONI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Water will move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TO the f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4495680"/>
            <a:ext cx="380988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3733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rganelle makes the ATP used to run the Na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K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um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2000" y="3124080"/>
            <a:ext cx="31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itochond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9400" y="4495680"/>
            <a:ext cx="747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of endocytosis in which cell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ke in small molecules or flu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867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inocyt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038480" y="609480"/>
            <a:ext cx="4419720" cy="2608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181480" y="380880"/>
            <a:ext cx="286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99"/>
                </a:solidFill>
                <a:latin typeface="Arial"/>
              </a:rPr>
              <a:t>http://www.lionden.com/cell_animations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4952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hite circles stand for oxygen molecu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 what you know about diffusion of molecules to predict which way the oxygen will mo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1480" y="5257800"/>
            <a:ext cx="8584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rom the lungs into the blood</a:t>
            </a:r>
            <a:br>
              <a:rPr sz="40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Move from a High concentration to low concentr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410080" y="609480"/>
            <a:ext cx="329256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3962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rrier protei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ke this one 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 protei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gral      periph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0920" y="1219320"/>
            <a:ext cx="187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integ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7800" y="4191120"/>
            <a:ext cx="756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rbon dioxide and oxygen mov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cross membranes in cells b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54100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ffu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95680" y="380880"/>
            <a:ext cx="42102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hrinking away of the cell membrane from the cell wall in a plant cell when placed in a HYPERTONIC environ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2200" y="1219320"/>
            <a:ext cx="266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lasmo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590920"/>
            <a:ext cx="723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INTEGRAL MEMBRANE PROTEIN that moves molecules PASSIVELY across cell membranes by attaching, CHANGING SHAPE, and flipping to the other side like a revolving d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48769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rrier 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5880" y="4343400"/>
            <a:ext cx="2743200" cy="2228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37000" y="6613560"/>
            <a:ext cx="308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http://bio.winona.edu/berg/ANIMTNS/facdifan.gi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5486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type of transport that moves substances OUT of cells is call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6880" y="1905120"/>
            <a:ext cx="235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x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8680" y="3635280"/>
            <a:ext cx="698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energy for active trans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es from this molec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319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T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562720" y="762120"/>
            <a:ext cx="2925720" cy="1611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55000" y="0"/>
            <a:ext cx="468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990099"/>
                </a:solidFill>
                <a:latin typeface="Arial"/>
              </a:rPr>
              <a:t>http://www.estrellamountain.edu/faculty/farabee/biobk/BioBooktransp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ind of membrane protein used by H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ions to cross membra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5560" y="1905120"/>
            <a:ext cx="30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roton pu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841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76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on chann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2895480"/>
            <a:ext cx="755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ind of membrane protein that moves C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++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or Cl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across membra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diagram represents an animal cell in a ___________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6920" y="1600200"/>
            <a:ext cx="184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isoton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3280" y="3048120"/>
            <a:ext cx="4761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will probabl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ergo cyto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ergo plasmolysi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y the same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37339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tay the same si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19920" y="380880"/>
            <a:ext cx="2360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9040" y="3352680"/>
            <a:ext cx="8402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INTEGRAL MEMBRANE PROTEIN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s a passageway/tunnel across the c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brane through which IONS can diff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52578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on chann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5105160" cy="2824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412960" y="0"/>
            <a:ext cx="316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http://bio.winona.edu/berg/ANIMTNS/voltgate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marL="4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ll if the transport is ACTIVE or  PAS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cilitated diffusion 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smosis   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K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ump  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ffusion  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docytosis  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ocytosis  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on channels 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ton pump 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480" y="1114560"/>
            <a:ext cx="21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AS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17524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AS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05680" y="2362320"/>
            <a:ext cx="19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10400" y="2971800"/>
            <a:ext cx="21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AS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880" y="3581280"/>
            <a:ext cx="19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1280" y="4114800"/>
            <a:ext cx="19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9880" y="4724280"/>
            <a:ext cx="21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AS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2160" y="5337000"/>
            <a:ext cx="19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5410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diagram represents an plant cell in a _______________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3400" y="1447920"/>
            <a:ext cx="23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ypoton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4160" y="2819520"/>
            <a:ext cx="8053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osmotic pressure in this cell wi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    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cre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553080" y="457200"/>
            <a:ext cx="2230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ll if the transport u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sicles   membrane proteins       Needs NO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cilitated diffusion 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smosis   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K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ump  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ffusion  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docytosis  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ocytosis  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on channels 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ton pump 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21880" y="1676520"/>
            <a:ext cx="38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embrane 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22860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embrane protein (aquaporin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31160" y="2895480"/>
            <a:ext cx="38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embrane 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15680" y="358128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eeds no hel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69400" y="403848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esi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41160" y="464832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esi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73960" y="5257800"/>
            <a:ext cx="38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embrane 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21680" y="5870520"/>
            <a:ext cx="38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embrane 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09480" y="5334120"/>
            <a:ext cx="768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ydrogen ions can also be call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me a molecule that moves across membranes using the kind of transport shown be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92200" y="1600200"/>
            <a:ext cx="17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luc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58672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t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3047760" cy="2476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36400" y="3657600"/>
            <a:ext cx="308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http://bio.winona.edu/berg/ANIMTNS/facdifan.gi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animal cel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welling and bursting =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rinking =  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plant cel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rinking away fro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ll wall    =  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keeps plant cells from underg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ytolysis?  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920" y="609480"/>
            <a:ext cx="183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yto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00400" y="1219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re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5360" y="358128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lasmo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16760" y="5410080"/>
            <a:ext cx="63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ell wall keeps it from bur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ind of endocytosis used to take in large particles or whole ce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6560" y="2133720"/>
            <a:ext cx="294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hag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1040" y="3352680"/>
            <a:ext cx="847116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utting a plant cell in a HYPOTON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lution will cause a(n) 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   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osmotic pressure when wate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ters the c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39625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incre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5410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diagram represents a plant cell in a _______________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4800" y="1066680"/>
            <a:ext cx="252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yperton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7080" y="1981080"/>
            <a:ext cx="82821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cell membrane will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ably 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rink away from the cell wall      swell &amp; burst           stay the same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smotic pressure in this cell w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 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process is called 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26668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hrink away from the cell w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554880" y="533520"/>
            <a:ext cx="1893960" cy="2057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802400" y="5943600"/>
            <a:ext cx="266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lasmo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920" y="457524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ecre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tch the picture with the kind of trans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6680" y="1219320"/>
            <a:ext cx="4181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ACILITATED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IFFUSION wi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arrier 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628720" cy="26514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271400" y="4724280"/>
            <a:ext cx="296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IF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2743200" cy="2229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60080" y="3352680"/>
            <a:ext cx="308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http://bio.winona.edu/berg/ANIMTNS/facdifan.gi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tch the picture with the kind of trans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8600" y="1447920"/>
            <a:ext cx="350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X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6520" y="3124080"/>
            <a:ext cx="432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IDE               OUTSID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L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962520" cy="2183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805280" y="2666880"/>
            <a:ext cx="393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stance is put in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sicle and transport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up to the cell membran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released OUT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2320" y="4876920"/>
            <a:ext cx="66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an organelle that uses thi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nd of trans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04960" y="5483160"/>
            <a:ext cx="293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olgi Bo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4240" y="761400"/>
            <a:ext cx="459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99"/>
                </a:solidFill>
                <a:latin typeface="Arial"/>
              </a:rPr>
              <a:t>http://www.emc.maricopa.edu/faculty/farabee/BIOBK/BioBooktransp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tch the picture with the kind of trans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57040" y="1676520"/>
            <a:ext cx="347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a</a:t>
            </a:r>
            <a:r>
              <a:rPr b="1" lang="en-US" sz="40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- K </a:t>
            </a:r>
            <a:r>
              <a:rPr b="1" lang="en-US" sz="40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pu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52680" y="563868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a</a:t>
            </a:r>
            <a:r>
              <a:rPr b="1" lang="en-US" sz="40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or     K </a:t>
            </a:r>
            <a:r>
              <a:rPr b="1" lang="en-US" sz="40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4800600"/>
            <a:ext cx="768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a substance that in transported in this 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873240" cy="2286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85800" y="838080"/>
            <a:ext cx="286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99"/>
                </a:solidFill>
                <a:latin typeface="Arial"/>
              </a:rPr>
              <a:t>http://www.lionden.com/cell_animations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tch the picture with the kind of trans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28960" y="1447920"/>
            <a:ext cx="38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ND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3440" y="2514600"/>
            <a:ext cx="409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stance is transport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TO cell inside a vesi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7080" y="4194000"/>
            <a:ext cx="795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these green/blue dots represent small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lecule or fluids this would be calle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14760" y="5334120"/>
            <a:ext cx="33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INOCYT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3733560" cy="2957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80880" y="838080"/>
            <a:ext cx="43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99"/>
                </a:solidFill>
                <a:latin typeface="Arial"/>
              </a:rPr>
              <a:t>http://academic.brooklyn.cuny.edu/biology/bio4fv/page/endocytb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ind of membrane protein used by glucose to move across cell membra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7960" y="2057400"/>
            <a:ext cx="355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arrier prote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2841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46483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quaporin (channe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3352680"/>
            <a:ext cx="75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ind of membrane protein that moves water across membra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utting plant cells into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YPERTONIC solution will cause water to ____________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ter cell              leave c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will cause a(n) ___________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urgor press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1219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eave c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22240" y="380988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ecre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utting plant cells into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YPOTONIC solution will cause water to ____________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ter cell              leave c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will cause a(n) ___________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urgor press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1219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nter c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21880" y="380988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cre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4952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cean water has a grea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ntration of diss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utes than the org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t live there so oc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sh live in a _______t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ll water move into or out of this kind of fis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83640" y="1219320"/>
            <a:ext cx="3596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ore solu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olecules outside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e fish’s cel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an in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Water will move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eave the f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62120" y="4495680"/>
            <a:ext cx="3809880" cy="19591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441880" y="2486160"/>
            <a:ext cx="14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Y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tch the picture with the kind of trans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8960" y="1447920"/>
            <a:ext cx="38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ND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3440" y="2895480"/>
            <a:ext cx="409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stance is transport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TO cell inside a vesi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3840120" cy="27082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06360" y="4194000"/>
            <a:ext cx="82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the green square represents a larg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lecule or a whole c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would be called 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57600" y="5302080"/>
            <a:ext cx="386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HAGOCYT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560" y="761400"/>
            <a:ext cx="472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99"/>
                </a:solidFill>
                <a:latin typeface="Arial"/>
              </a:rPr>
              <a:t>http://academic.brooklyn.cuny.edu/biology/bio4fv/page/cell-movement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5410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diagram represents a animal cell in a _______________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3400" y="1447920"/>
            <a:ext cx="252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yperton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640" y="2819520"/>
            <a:ext cx="82821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will probably 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rink        swell &amp; burst     stay the sam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process is called 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2819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hri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554880" y="533520"/>
            <a:ext cx="1893960" cy="2057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183280" y="4756320"/>
            <a:ext cx="224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re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marL="30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ll the kind of transport used by e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ucose 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xygen &amp; carbon dioxide   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 K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ons 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Cl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&amp; Ca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ons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ter  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ons 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56080" y="533520"/>
            <a:ext cx="472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acilitated diffusion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with carrier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16002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ffu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28120" y="2514600"/>
            <a:ext cx="31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a </a:t>
            </a:r>
            <a:r>
              <a:rPr b="1" lang="en-US" sz="36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– K</a:t>
            </a:r>
            <a:r>
              <a:rPr b="1" lang="en-US" sz="3600" spc="-1" strike="noStrike" baseline="30000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u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9400" y="3809880"/>
            <a:ext cx="332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acilitated diffusion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ith Ion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89520" y="4753080"/>
            <a:ext cx="671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acilitated diffusion with aquaporins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osmos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77240" y="5791320"/>
            <a:ext cx="29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ton pum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tch the picture with the kind of trans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3048120"/>
            <a:ext cx="4343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SMOS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acilitated diffusion with aquapor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3760" y="1143000"/>
            <a:ext cx="835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INTEGRAL MEMBRANE PROTEIN provide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ssageway/tunnel across the cell membrane throug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WATER molecules can diffuse PASSIVE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3353040" cy="3068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08400" y="6019920"/>
            <a:ext cx="286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http://www.spps.kvl.dk/news/0507/Lund4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ll the kind of transport used by ce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take in large molecule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&amp; whole cells     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take in small molec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amp; fluid           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by Golgi to transpor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ecules OUT of cell   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by white blood cells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gulf and destroy bacteria 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49760" y="144792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hagocyt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3800" y="304812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inocyt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3800" y="426708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xocyt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06960" y="571500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hagocyt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essure of water pushing against the cell wall in a plant cell is called ________________ press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BEL THE DIAGRAMS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07280" y="1295280"/>
            <a:ext cx="184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smot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5360" y="579132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YPERT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990720" y="3352680"/>
            <a:ext cx="7391160" cy="23274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174000" y="579132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YPOT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83800" y="579132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SOT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cilitated diffusion using aquaporins is also called 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althy cells work to “maintain stable internal conditions” also called ____________. If this doesn’t happen, cells can be damage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That is what happens when cells shrink or swell in hypotonic or hypertonic solutions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4572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sm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4600" y="2590920"/>
            <a:ext cx="25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meosta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tch the picture with the kind of trans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57800" y="2819520"/>
            <a:ext cx="236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roton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u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3733920" cy="26193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99520" y="1143000"/>
            <a:ext cx="845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EMBRANE PROTEIN that uses energy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LY transport hydrogen ions (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ross a cell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are pumps different from facilitated diffusion carriers and channe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1752480"/>
            <a:ext cx="883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umps require energy (active transp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d carriers and channels don’t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ergy (passive transp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umps move against the gradient (low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igh)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rriers/channels move with the grad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high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→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lo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ind of transport used by glucose to move across cell membra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9400" y="1828800"/>
            <a:ext cx="765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acilitated diffusion with a carri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841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55627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odium-potassium pum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895480"/>
            <a:ext cx="755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ind of transport that can move sodium and potassium ions AGAINST the concentration gradient f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5334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n you sit in the bathtub, your fingers get wrinkly because of the water entering your skin cells. The bathtub water is  a ____________ solution compared to your skin ce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7600" y="3657600"/>
            <a:ext cx="23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ypoton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2762280" cy="2762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40720" y="5943600"/>
            <a:ext cx="70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onic            isotonic           hyperto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4648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type of transport is call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2520" y="1676520"/>
            <a:ext cx="266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nd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581280" y="2743200"/>
            <a:ext cx="3840120" cy="2708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038120" y="6400080"/>
            <a:ext cx="472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99"/>
                </a:solidFill>
                <a:latin typeface="Arial"/>
              </a:rPr>
              <a:t>http://academic.brooklyn.cuny.edu/biology/bio4fv/page/cell-movement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04560" y="685440"/>
            <a:ext cx="5562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ffusion contin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til the concentration of molecules is equal throughout the spa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called 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22200" y="3962520"/>
            <a:ext cx="274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quilibri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715000" y="609480"/>
            <a:ext cx="262908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 transport can mov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lecules AGAINST the concentration gradi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          Pas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5880" y="609480"/>
            <a:ext cx="21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9000" y="3886200"/>
            <a:ext cx="180720" cy="11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3886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tar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3429000"/>
            <a:ext cx="52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you mix iodine with 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will see 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lack/purp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lor chang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37339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9:30:30Z</dcterms:created>
  <dc:creator>kriedell</dc:creator>
  <dc:description/>
  <dc:language>en-US</dc:language>
  <cp:lastModifiedBy>Becca Riedell</cp:lastModifiedBy>
  <dcterms:modified xsi:type="dcterms:W3CDTF">2008-10-05T14:19:34Z</dcterms:modified>
  <cp:revision>54</cp:revision>
  <dc:subject/>
  <dc:title>asdfs</dc:title>
</cp:coreProperties>
</file>